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753E-634C-4C77-812D-DB6114CF2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F718-DD54-42A1-B40A-2C9B5F08F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DC11-EF5D-4629-A760-F17C91BBD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BE7D-9AB5-4B03-AD77-18C25082A0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36D8E-273D-430E-B276-C567B115D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1206-7346-45B8-BEBA-807730D49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C35C-5C15-4BD3-AF70-FF6EBDAA5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1F88-968A-46C7-8C1B-6CDCA61E6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-76320"/>
            <a:ext cx="6705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AAA2-04B9-4A1F-A3BD-1B70BF296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FA7B-185E-4E5C-8A4B-00E4D4127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DDEC-02D5-4757-B7FD-2BD243E99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8CCF-310F-4FAB-A94F-07414F88B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0"/>
            <a:ext cx="67057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2438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324480"/>
            <a:ext cx="67057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2438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Md BT"/>
              </a:rPr>
              <a:t>US DOE Joint Genome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438280" cy="5257800"/>
          </a:xfrm>
          <a:prstGeom prst="rect">
            <a:avLst/>
          </a:prstGeom>
          <a:solidFill>
            <a:srgbClr val="c9c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840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1B9D-761B-4A75-B78A-86E31FC54C6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JGI_logo_web1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code.org/" TargetMode="External"/><Relationship Id="rId2" Type="http://schemas.openxmlformats.org/officeDocument/2006/relationships/hyperlink" Target="http://www.dcode.org/" TargetMode="External"/><Relationship Id="rId3" Type="http://schemas.openxmlformats.org/officeDocument/2006/relationships/hyperlink" Target="http://www.dcode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9AB5-537C-4E89-9B8E-8746F79585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499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48720" cy="108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419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ws manual curation of problematic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w DNA sequence, splice sites and all 6 frames of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errors propagated by automated pipeline or error in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ck Start, Stop and 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DCEA-0797-4DE6-9421-D88D1E2FE4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or 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ken mouse cDNA suggests that the human models in this region belong to a single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6705720" cy="462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se mRNA (tblas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C2BF-E8DF-447A-8741-417E85479A9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dcode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95280" y="1182600"/>
            <a:ext cx="7696440" cy="38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olutiona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rvation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, mouse, rat, chicken, frog, fugu, tetraodon, zebrafish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gen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69E4-A204-4BC7-8785-A2B3E89698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CTG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11430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times CTG is used as the start instead of A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K10 has 2 isoforms in Ref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xed ORF most closely matches RefS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702324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5346720"/>
            <a:ext cx="560088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523520" y="49528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52880"/>
            <a:ext cx="3505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FCCA-0416-4DB3-AA78-4747DC7849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ameshift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92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frame shift deletion in the genomic sequence results in poor matches to known prote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ch the known protein exac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how the actual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ends on support for each sce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814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18F7-4D9A-4B11-B993-7E369342A7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verlapping divergent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920" y="3809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ly partially overlapping transcripts have very different CDS but share common ex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is ex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r19 genes are densely packed on both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371600"/>
            <a:ext cx="65376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11F5-3D2F-4991-972F-BA7C6E495E7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sp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148896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stinguishing incompletely processed mRNAs from splice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Retained intron interupts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fferences with RefSeq, possibly due to variation in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0" r="0" b="3843"/>
          <a:stretch/>
        </p:blipFill>
        <p:spPr>
          <a:xfrm>
            <a:off x="1244520" y="3200400"/>
            <a:ext cx="7365960" cy="27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32B7-750D-4877-8FE1-F58A2CE31C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bled gene that has an insult- stop or frameshift that interrupts or changes the ORF from the parent ge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morphic sites or transcripts indicate that locus activity may vary between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retro transposition of RNA into genomic DN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ngle exon, polyA, lacks promotor/CpG, degraded con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n-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duplication, subsequently disabled, possible to find parent reg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rally multi exon, promotor/CpG 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3523-B140-467D-9F75-06376FBCB66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cessed 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077840"/>
            <a:ext cx="342900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380988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93824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B3CF-FDDB-4A2A-8707-3D36C70BBFC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GI Human Chromosome An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3,100-4,4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371600"/>
            <a:ext cx="6629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2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6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1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9-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5 - complete. Paper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6-completed First Pass, should be done in the next month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2828-01D2-46FE-BD7E-A9119A8533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9528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y: seek best automated models using a hierarchy of evidence.  Manually review high quality evidence (human mRNAs) for which no faithful models can be crea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fast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45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B0A6-B483-4739-B360-AD09B37CB65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ot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rea A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Low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oel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urie Gord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y Tran-Gyamf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ry X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chael Althe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an Challacom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hy Cle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ina Th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remy Schmutz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e Man Ch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123920"/>
            <a:ext cx="2895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ffe Helst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ayne Hua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Goodste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gor Grigoriev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 Ra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an Caenap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af Sala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aac H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ila Horn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ette Gre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ictor Solovye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van Ovcharen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livier Cour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amvir Deh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na Dubcha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sa Stub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Dan Rokh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A3F3-A903-4335-9EE7-7300D925B32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y gene families have known gene structures but lack extensive mRNA/EST evidence in hu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factory receptors (approximately 40 genes, as many as 150 pseudogenes) -- single exon, seven transmembrane recep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AB-containing Zn fingers -- single KRAB domain near amino terminal, followed by typically one exon with multiple zinc fin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several other fami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custom models using expected gene structure using automated metho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tomatically identify pseudogenes, which are common in tandem gene famil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ch tandem families are hard to model ab initio, easy to run gene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0E3B-E4D3-4B64-B872-482E04CAAD0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icult 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NAi non-coding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ngle exon ge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ncodes 136 aa ORF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us supported by multiple mRNA and EST evid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tisense to TRAP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2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 similarities to known proteins.</a:t>
            </a: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10800000">
            <a:off x="838080" y="4343040"/>
            <a:ext cx="77724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D600-9AA0-41DA-A195-CD0B633923C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ABE8-83CC-4083-B9C2-D4C0E7769119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63600" y="1981080"/>
          <a:ext cx="48168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3600" y="1981080"/>
                    <a:ext cx="48168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666880" y="44956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un multiple non-dependent step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ken into commands of vary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100000s-1,000,000 cmds/jobs issued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BC07-A912-41D3-8CB4-27FF540243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3160" y="1192320"/>
          <a:ext cx="79930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2320"/>
                    <a:ext cx="79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9E13-9BB7-49BC-829F-7593AAD0B9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12193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p all human mRNAs in Genbank with BLAT against sequence scaffol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empt to turn these mRNAs into faithful gen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pect coding sequence declared in Genbank, or use  longest OR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w canonical spl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T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9.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C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…A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0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ag for review evidence for any single base indels (helps correct finishing err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stx alignments of known protein Dbs, seed GeneWis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 inito model predictions using FgenesH++ and Gen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9118-BD3D-4189-9380-AA8C0FB92F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datasets &amp;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&amp; Human cD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cDNA set is large, and more Rat data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&amp; Rat IP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model using blastx alignments to seed GeneWi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tend with partial human mRNAs (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tebrate mRNA is also a useful dataset for validation/confirmation but not essential (Primate data until recently has not been available in useful quantit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rst EF: First Exon Finder (M Zhang) vs CpG Is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ary conservation (Vista, dcode, in-house too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0437-A479-4020-8DDF-778DBABC04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06600"/>
            <a:ext cx="8839080" cy="535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notation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439A-3508-49E2-95E1-CA9B2A3D3E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ctional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omputed alignments and domain finders allow easy viewing of predicted peptide’s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1148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s for assigning putative functions based on homology,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97528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5C81-1142-4747-82EF-261E42B1D9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24280" y="1206360"/>
            <a:ext cx="3810240" cy="32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809880" cy="195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4394160"/>
            <a:ext cx="381024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2F9E-F8E9-415C-B978-0F8D7F706D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7:21:30Z</dcterms:created>
  <dc:creator>DOE JGI</dc:creator>
  <dc:description/>
  <cp:keywords>Presentation Generic</cp:keywords>
  <dc:language>en-US</dc:language>
  <cp:lastModifiedBy>DOE JGI</cp:lastModifiedBy>
  <cp:lastPrinted>2000-11-14T22:10:33Z</cp:lastPrinted>
  <dcterms:modified xsi:type="dcterms:W3CDTF">2004-04-26T19:07:38Z</dcterms:modified>
  <cp:revision>20</cp:revision>
  <dc:subject>Berkeley Lab Generic Presentation</dc:subject>
  <dc:title>PowerPoint Presentation</dc:title>
</cp:coreProperties>
</file>